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38160" y="4788000"/>
            <a:ext cx="12928680" cy="1904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5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425320"/>
            <a:ext cx="11633040" cy="231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5130360"/>
            <a:ext cx="1163304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56592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95544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39536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83564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95720"/>
            <a:ext cx="1163304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5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8686800"/>
            <a:ext cx="11633040" cy="635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"/>
          </a:bodyPr>
          <a:p>
            <a:pPr indent="0" algn="ctr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851040" y="520560"/>
            <a:ext cx="11277360" cy="729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56592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95544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39536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83564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 rot="80400">
            <a:off x="837720" y="4737240"/>
            <a:ext cx="5245200" cy="25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413080"/>
            <a:ext cx="556272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5054760"/>
            <a:ext cx="5562720" cy="125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 rot="5400000">
            <a:off x="6378120" y="2147400"/>
            <a:ext cx="6769080" cy="539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2692080"/>
            <a:ext cx="556272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29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8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415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0192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56120" y="2692080"/>
            <a:ext cx="556236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29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8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415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0192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2692080"/>
            <a:ext cx="556272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29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8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415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0192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 rot="5400000">
            <a:off x="6378120" y="3227040"/>
            <a:ext cx="6769080" cy="539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149640"/>
            <a:ext cx="116330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5800" y="533520"/>
            <a:ext cx="11633040" cy="868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96516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40976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85436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29860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29860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29860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425320"/>
            <a:ext cx="11633040" cy="231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Who Wants to be a Millionaire&gt;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5130360"/>
            <a:ext cx="1163304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16,000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A truck starts from rest, in 5 seconds the truck is moving at a velocity of 35 m/s.  What was the trucks acceleration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25,000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A biker is moving at 15 m/s and stops in 5 seconds.  What was the bikers acceleration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50,000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An objects falls from the top of a building and takes 4 seconds to hit the ground.  How high was the building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100,000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A quarter is dropped from the top of a building and hits the ground in 3 seconds.  How fast was the quarter moving when it hit the ground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250,000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How long does it take a skydiver to reach a speed of 50 m/s in free fall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500,000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What is the initial velocity of a rocket that takes 8 seconds from the time of launch till it hits the ground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1,000,000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A ball hits the ground at a velocity of 30 m/s.  How high did the ball fall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100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What is acceleration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200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What is the value of gravity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300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What is free fall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500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What is the shape of the path of a projectile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1,000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Draw the path of a projectile and label the spot where to velocity is 0 m/s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2,000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What is the formula for acceleration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4,000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A man is running at 5 m/s and continues running at 5 m/s as her runs around a turn.  Is he accelerating?  Why or why not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8,000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A rocket takes 50 seconds from launch time till it hits the ground.  How long did it take the rocket to get to its highest point?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